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7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25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DC1-051D-4D1D-B62E-11A82E4A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66C-A674-4C54-8838-D6E40456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ADC-6DE4-41F5-9C1A-4EF7BB2F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E8C-0F8B-442C-99B3-C2E35146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BDD8-1A75-4AE4-90F2-448911E6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1D0F-3E71-48D6-85E8-512F15CF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3CB9-BF0C-458C-87B9-3719C64D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4D96-E69E-439E-B0BB-C0B3B757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14C0-F0EF-45B5-B732-0E7500BB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14E2-1314-4B82-AAC2-0598444D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EC6B-BF30-414C-9557-07ADC869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912-BD1B-42B2-B740-4FE7BBB3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4B75-2BB1-44B5-BE5C-CA2A1B16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07A9-8C20-4B23-AEB0-C2B4ED54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0CFF-3FB4-4B2F-BD1D-B3577C8E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6D7A-91B3-4753-B53E-C09F4BA6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CECA-1D71-4DFB-8C85-6C5D3132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891D-50B8-497F-A279-DC86C9D0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8A9B-FF96-4F38-B3DA-CAD1EC12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81C4-61A8-43FE-83E4-C30AAD04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B4D0-82A4-4CDD-AF60-749B14AB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5BDCF-49B6-47C5-A058-922CE2CE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BDE-706E-4BF6-8F30-52957D29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DEFFA-A325-4AD1-960F-22287EE8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20A6-33BD-4CCA-9DA3-108E3CE5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B492-30C7-450C-B68E-4C966F9E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BEEC-7772-48D2-BE29-2D9625B5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2BDF3-D054-454E-8AC4-720963CD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83BE9-8D1D-4C5A-B8D8-D3463E25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E64D-8346-4541-B8D1-D4E24EA7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D61-6A16-4BC0-BB0E-264B702B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C6B-E727-4E2A-B3C9-2A05FF9F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6AE-8427-4512-B614-2773E660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FC8-7D59-4F66-8934-F07D3AD0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28B-22B1-4079-B724-CA158CB4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596-C2CB-4D32-BF63-439A1BED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F848-C7A7-4B5D-9F88-2AA8FD4AE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4550-618F-4F80-8D88-64CDC76975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7D50-0BA0-44C5-90E5-2F9CF8821973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1828440"/>
            <a:ext cx="4190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adway Kindergar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Back to School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-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71760" cy="472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487840" y="2286000"/>
            <a:ext cx="365616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447920" y="1219320"/>
            <a:ext cx="6476760" cy="432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th I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te Counts to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9436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9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2604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Basic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All 4 (square, rectangle, circle, triangle) + 1(cube or sp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ifies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5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-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4621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6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971800" y="228600"/>
            <a:ext cx="3429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plicates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onstrates 1 to 1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: 1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1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unts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or mo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e Sets—Same, More,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4-5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581280" y="4572000"/>
            <a:ext cx="2040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ames Numerals 11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429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rites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rrectly writes all numerals 0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Correctly writes all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Correctly writes at least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Correctly writes less than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s Ordinals (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o 1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The student correctly performs all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The student correctly performs at least 6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The student correctly performs at least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The student correctly performs less than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21043800">
            <a:off x="5029200" y="2437920"/>
            <a:ext cx="33670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50292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Objects to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s Objects to Sub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038480" y="2789280"/>
            <a:ext cx="45118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res Eq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The student correctly divides sets of 10-16 and    5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The student correctly divides sets of 10 and 16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The student correctly divides one or both sets of 10 and 16 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The student is unable to divide any of the sets of counters into 2 groups or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00200" y="5029200"/>
            <a:ext cx="6019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Kindergarten Report Card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Excellent Progress—on or above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atisfactory Progress—on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ome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Unsatisfactory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2895480" cy="22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447920" y="533520"/>
            <a:ext cx="62481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eneral Knowledg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Ite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12408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= 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Needs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 = Un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1971720" cy="2971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0880" y="6858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57200"/>
            <a:ext cx="83059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8 Basic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6-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Days of the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6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858000" y="2286000"/>
            <a:ext cx="1903320" cy="2666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038480" y="5335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419720" y="76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nts 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2286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i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191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ares Attributes of Two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3 or 4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or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862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685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entifies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2 or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213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imates Quantities to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or 3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267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etes Pattern Block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6352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85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tell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—must have a beginning, middle, and end for an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icipating in Collecting and Organizing Data in Group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180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337968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57800" y="0"/>
            <a:ext cx="2986200" cy="373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 rot="1308600">
            <a:off x="2057040" y="1828440"/>
            <a:ext cx="54864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Arts Item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s Capital Letters &amp; Names Lower Case Let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905120"/>
            <a:ext cx="556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25-2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22-2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18-2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1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373356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ices/Applies Consonant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st Quarter (6 Soun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nd Quarter (15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14-1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2-1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0-1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0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152388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rd &amp;4th Quarter (23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22-2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9-2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6-18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257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onstrates Book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5-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71800" y="3830760"/>
            <a:ext cx="30481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28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1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5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7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66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50-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34-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94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70-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0-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200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733920" y="838080"/>
            <a:ext cx="853416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quences Pictur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Rhyming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9/10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7/8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6/7 Wor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67668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3808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Oppo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80880"/>
            <a:ext cx="411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Capital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case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25-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2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18-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429000"/>
            <a:ext cx="8305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to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Writes more than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Writes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Writes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Writes less than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230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4:26:49Z</dcterms:created>
  <dc:creator>kmclaughlin</dc:creator>
  <dc:description/>
  <dc:language>en-US</dc:language>
  <cp:lastModifiedBy>kmclaughlin</cp:lastModifiedBy>
  <dcterms:modified xsi:type="dcterms:W3CDTF">2008-09-02T21:06:32Z</dcterms:modified>
  <cp:revision>20</cp:revision>
  <dc:subject/>
  <dc:title>Broadway Kindergarten “Back to School” 2006-2007</dc:title>
</cp:coreProperties>
</file>