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7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png" ContentType="image/png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168-CF55-4D50-9925-FAA573A3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414-4EB8-49FD-87E0-AC200440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188-A8FD-4E89-9EA2-7EBD18FD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F38-6CE1-481D-BAB0-9A21AB19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2518-18C1-452A-B9EF-0090BD8F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7B25-2CDA-4590-89C1-1DE48632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9FD6-2607-4EB5-9A6A-385F640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98F0-7909-4E0D-B759-36561135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E52A-6A1E-47FB-AB8D-9B5B529F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31F7-91B5-4961-ABDC-7BEB793D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DC61-AC9D-4625-A972-B06AD614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D75-C838-4C5D-9EFC-4FD2A26F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FE9F-CAAB-4973-9F8B-593B6E9E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8F00-909B-40E3-9F58-C2603CF3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9240-3E37-491F-815E-1953B395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58A8-5660-4016-92EB-4D496D0C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F0EF-928C-4683-AEF1-1123346C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46BE-C8FD-41C9-9B18-728A81FC5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0A2A-348B-4684-99FD-6FDAF6A9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6391A-F69B-4159-8D57-72D457A1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660E1-FB37-4C6C-9397-37CDF786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9FD4-84DA-4CD7-B39C-FC645159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DB0-99CD-47B8-BF26-B07ACEC8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C829D-1A15-4ECF-A901-86FD5E58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D401-79D1-4F10-9B01-BB39817D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5B34C-9768-4883-8858-5CC43C67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F034A-4254-444B-A1CC-6B33BBA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A940-FF8F-44CF-BF45-A798C82B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EF62-B7B4-4B00-926D-33E2F7D6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F34D-57A4-4878-AC95-C24605F1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C23-0317-4726-B18A-DCFB0574F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F11-16FE-4B23-9114-19CEFBD7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AAB-17E5-4CC5-BA3E-9C953433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D767-8656-4F18-844F-8E8F926A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97A-D6A0-4CB7-9E26-3A5020CB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FBA1-7258-4EBE-9075-423EF73F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166B-7515-49DE-9384-CDA547286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3951-C502-47AB-86CC-840970C687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F089-81C4-4BA0-B73F-9125FD6FCB9E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1828440"/>
            <a:ext cx="4190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adway Kindergar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Back to School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8-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1760" cy="4724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487840" y="2286000"/>
            <a:ext cx="3656160" cy="4572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447920" y="1219320"/>
            <a:ext cx="6476760" cy="432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th Ite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te Counts to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9436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0-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30 &amp; Start at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9-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22604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Basic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All 4 (square, rectangle, circle, triangle) + 1(cube or sphe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assifies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5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3-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46212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46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971800" y="228600"/>
            <a:ext cx="3429000" cy="638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plicates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monstrates 1 to 1 Correspo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: 1-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1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unts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or more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e Sets—Same, More,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4-5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208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81280" y="4572000"/>
            <a:ext cx="20401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2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ames Numerals 11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s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ches Sets to Numerals 0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 1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9-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-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429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4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rites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Correctly writes all numerals 0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Correctly writes all numerals 0-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Correctly writes at least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Correctly writes less than half of the num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es Ordinals (1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s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o 1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The student correctly performs all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The student correctly performs at least 6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The student correctly performs at least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The student correctly performs less than 4 of the 8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 rot="21043800">
            <a:off x="5029200" y="2437920"/>
            <a:ext cx="336708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50292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Objects to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ses Objects to Sub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038480" y="2789280"/>
            <a:ext cx="45118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8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hares Equ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The student correctly divides sets of 10-16 and    5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The student correctly divides sets of 10 and 16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The student correctly divides one or both sets of 10 and 16  counters into 2 groups and expl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The student is unable to divide any of the sets of counters into 2 groups or ex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600200" y="5029200"/>
            <a:ext cx="60199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1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Kindergarten Report Card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Excellent Progress—on or above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atisfactory Progress—on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Some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—Unsatisfactory Progress—below grad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8120" y="4343400"/>
            <a:ext cx="2895480" cy="22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447920" y="533520"/>
            <a:ext cx="62481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General Knowledge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Item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12408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 = 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 = Needs Impro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 = Unsatis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1971720" cy="297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0880" y="6858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457200"/>
            <a:ext cx="830592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8 Basic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6-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mes Days of the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7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6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903320" cy="2666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038480" y="5335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419720" y="762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nts Firs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2286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ses Positional/Directional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9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5-8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&l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419112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ares Attributes of Two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3 or 4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or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8862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685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dentifies C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2 or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13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imates Quantities to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or 3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267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letes Pattern Block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Student successfully completes 2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Student Successfully completes 1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tudent does not successfully complete any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635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858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tell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—must have a beginning, middle, and end for a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5334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icipating in Collecting and Organizing Data in Group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or N = Teacher ju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80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3379680" cy="502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157800" y="0"/>
            <a:ext cx="298620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1308600">
            <a:off x="2057040" y="1828440"/>
            <a:ext cx="548640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Arts Item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s Capital Letters &amp; Names Lower Cas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905120"/>
            <a:ext cx="556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25-2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22-2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18-21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18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373356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ices/Applies Consonant S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st Quarter (6 Sound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4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nd Quarter (15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14-15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2-1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0-1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0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15238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rd &amp;4th Quarter (23 Sou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=22-23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19-21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16-18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=&lt;16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24280" y="3505320"/>
            <a:ext cx="2578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monstrates Book Awar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7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5-6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= 3-4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= &lt;3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3830760"/>
            <a:ext cx="30481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s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3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28-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21-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5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7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66-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50-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34-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3962520"/>
            <a:ext cx="40384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Quarter (100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94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70-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50-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= &lt;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2004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733920" y="838080"/>
            <a:ext cx="853416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quences Pictur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4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3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2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1 or 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Rhyming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9/10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7/8 Words without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6/7 Wor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367668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8088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s Oppo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10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8-9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7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380880"/>
            <a:ext cx="41148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Capital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cas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25-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22-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18-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&lt;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429000"/>
            <a:ext cx="83055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rites to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Writes more than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Writes 3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Writes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Writes less than 2 thoughts on a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2302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4:26:49Z</dcterms:created>
  <dc:creator>kmclaughlin</dc:creator>
  <dc:description/>
  <dc:language>en-US</dc:language>
  <cp:lastModifiedBy>kmclaughlin</cp:lastModifiedBy>
  <dcterms:modified xsi:type="dcterms:W3CDTF">2008-09-02T21:06:32Z</dcterms:modified>
  <cp:revision>20</cp:revision>
  <dc:subject/>
  <dc:title>Broadway Kindergarten “Back to School” 2006-2007</dc:title>
</cp:coreProperties>
</file>