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7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25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5C0-2597-4C29-9642-6CABEA16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005-1935-4924-98D0-A2C11CD4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4AB-DC60-4D45-AE84-0FD22CAB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8041-BC95-4988-85F5-025269DF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7EA-69FF-4D5F-AA70-938CC62F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FF61-4B5A-4CF4-BBBD-8204421B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5245-C3C8-47B9-80A7-17358265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A323-F506-41C6-A2E9-8B450C1D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6FF9-2E5A-41CA-952D-F1725ED8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375E-43C4-4282-ADFA-6768340F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DADB-A4F3-4321-9804-4EDC9DB4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E9A-93D5-4C69-99FD-6A52BF89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9788-9F8F-4147-811E-AED14635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9E95-6923-44DF-A12F-36B13386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969C-7BF2-4E17-AE8F-66F762FC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FEF9-607F-481A-A144-64B93612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9DA5-1040-4ADC-A75A-EB92C3E8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509F6-CF59-41B4-9D0D-3D818F57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8EAF7-AA4C-44BB-9432-18FD8F2F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84F2-705A-4208-9D79-5599350B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931B-E29B-45B3-8A5B-25C22A72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7A2FC-1E94-40CF-81F7-B124FEE0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E09-C841-481D-A912-A6403562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FCA50-A3F6-4440-9030-212375CE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BF0DC-17D9-447B-953E-C36EA9F2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C49C-E350-46B7-8541-A066B4D7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21DA-2C9E-4B0A-AD41-63520BEB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5D75-2FA9-487C-9693-E0745BEF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16AD-C50E-4A63-B626-13963521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CC80-B9E2-4A79-9261-F4C16DBD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6506-3092-4439-AC19-D789D9DD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272-1F9C-46F2-A4A5-1095707F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426-EBD3-402A-8B57-094717DC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82E-0BDE-4A1F-8548-7E59B1F1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A434-9D66-4CDF-86F5-993E1A1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042-EA03-41DE-929E-7C0512A6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BA7A-7FCB-48C1-94D3-C95F5C021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4AA2-5C95-4E44-97C4-B714DA4206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3CC7-08B0-42DE-8188-DE9C331CDEDC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1828440"/>
            <a:ext cx="4190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adway Kindergar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Back to School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-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71760" cy="472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487840" y="2286000"/>
            <a:ext cx="365616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447920" y="1219320"/>
            <a:ext cx="6476760" cy="432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th I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te Counts to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9436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9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2604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Basic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All 4 (square, rectangle, circle, triangle) + 1(cube or sp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ifies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5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-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4621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6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971800" y="228600"/>
            <a:ext cx="3429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plicates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onstrates 1 to 1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: 1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1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unts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or mo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e Sets—Same, More,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4-5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581280" y="4572000"/>
            <a:ext cx="2040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ames Numerals 11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429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rites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rrectly writes all numerals 0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Correctly writes all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Correctly writes at least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Correctly writes less than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s Ordinals (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o 1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The student correctly performs all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The student correctly performs at least 6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The student correctly performs at least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The student correctly performs less than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21043800">
            <a:off x="5029200" y="2437920"/>
            <a:ext cx="33670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50292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Objects to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s Objects to Sub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038480" y="2789280"/>
            <a:ext cx="45118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res Eq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The student correctly divides sets of 10-16 and    5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The student correctly divides sets of 10 and 16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The student correctly divides one or both sets of 10 and 16 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The student is unable to divide any of the sets of counters into 2 groups or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00200" y="5029200"/>
            <a:ext cx="6019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Kindergarten Report Card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Excellent Progress—on or above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atisfactory Progress—on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ome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Unsatisfactory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2895480" cy="22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447920" y="533520"/>
            <a:ext cx="62481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eneral Knowledg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Ite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12408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= 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Needs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 = Un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1971720" cy="2971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0880" y="6858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57200"/>
            <a:ext cx="83059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8 Basic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6-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Days of the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6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858000" y="2286000"/>
            <a:ext cx="1903320" cy="2666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038480" y="5335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419720" y="76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nts 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2286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i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191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ares Attributes of Two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3 or 4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or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862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685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entifies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2 or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213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imates Quantities to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or 3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267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etes Pattern Block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6352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85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tell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—must have a beginning, middle, and end for an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icipating in Collecting and Organizing Data in Group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180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337968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57800" y="0"/>
            <a:ext cx="2986200" cy="373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 rot="1308600">
            <a:off x="2057040" y="1828440"/>
            <a:ext cx="54864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Arts Item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s Capital Letters &amp; Names Lower Case Let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905120"/>
            <a:ext cx="556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25-2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22-2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18-2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1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373356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ices/Applies Consonant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st Quarter (6 Soun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nd Quarter (15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14-1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2-1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0-1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0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152388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rd &amp;4th Quarter (23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22-2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9-2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6-18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257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onstrates Book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5-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71800" y="3830760"/>
            <a:ext cx="30481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28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1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5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7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66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50-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34-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94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70-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0-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200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733920" y="838080"/>
            <a:ext cx="853416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quences Pictur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Rhyming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9/10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7/8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6/7 Wor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67668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3808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Oppo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80880"/>
            <a:ext cx="411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Capital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case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25-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2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18-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429000"/>
            <a:ext cx="8305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to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Writes more than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Writes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Writes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Writes less than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230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4:26:49Z</dcterms:created>
  <dc:creator>kmclaughlin</dc:creator>
  <dc:description/>
  <dc:language>en-US</dc:language>
  <cp:lastModifiedBy>kmclaughlin</cp:lastModifiedBy>
  <dcterms:modified xsi:type="dcterms:W3CDTF">2008-09-02T21:06:32Z</dcterms:modified>
  <cp:revision>20</cp:revision>
  <dc:subject/>
  <dc:title>Broadway Kindergarten “Back to School” 2006-2007</dc:title>
</cp:coreProperties>
</file>