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7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EF9-2323-4B0B-B41C-EEA5D819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843-AF07-4128-9FC0-1765DB05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EB5-7A78-42D4-92EC-B674CDA2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BC6-188D-4B58-BF7E-0EABE535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AB88-9CDB-480E-99FE-925F6210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2B9-C9C6-418F-A365-3A5DD4D2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77BF-8F67-46D7-89D2-F6A0518E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6176-5E0F-4536-A7F2-679B18D2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7973-9DB1-450B-BF13-DBBEBAE6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C35A-5FB9-456A-AE55-0EA62599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A42E-1F4C-46F8-906A-8681EE5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F05-EEF9-4ACE-995D-969B8391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0892-C5FA-4275-B0FC-7DCC527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F26F-FFCE-4C49-8B2D-E2870349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BCE4-F0A3-4294-915A-86BF1D3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6144-4EF4-4691-8040-CDF8F2A2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5965-DE91-4AE2-953C-BB6B9D20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E076-7141-47C2-A4FA-D6CB194F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9B190-9E80-4F25-8045-F4CCBEF5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E5FE-1A32-4C09-A75B-5A870472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49B3D-7721-4189-A121-16976961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FE32-5807-4565-8D2C-3B9AD4D7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D58-A0A3-4E36-86E9-2242AFCC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2A3C1-C45C-4FBD-9CE1-7F30EDDB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95CD-5B94-4415-928B-54EA7A2E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2B5A-B62D-4D5D-9123-EF09805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389D9-1989-48D6-85BF-3B0881F6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F9E7-26CE-43F7-83A8-3881E0C7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44B0-F283-43C3-8681-C7DAE5EF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DD74-F429-410E-AE24-CA04547D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708-0F30-4C09-8E46-D4FD1933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297-7DA2-4FB6-B3B8-22A4D5F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560-E0BF-4539-9049-D497819E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40D-2592-4415-B7DB-E20D6D03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139-07BA-4645-90DD-90D05ED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BD0-B893-4FB4-843C-5C8A854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17F4-E8A9-4954-905A-A6C54251C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CA18-8E69-4329-8962-4B8603FE4B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466F-5E66-4612-A451-9D9DC95D0A22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1828440"/>
            <a:ext cx="4190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adway Kindergar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Back to School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-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1760" cy="47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87840" y="228600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447920" y="1219320"/>
            <a:ext cx="6476760" cy="43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th I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e Counts 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9436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9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2604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Basic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All 4 (square, rectangle, circle, triangle) + 1(cube or sp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ifies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5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-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462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6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971800" y="228600"/>
            <a:ext cx="3429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plicates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onstrates 1 to 1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: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unts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or mo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e Sets—Same, More,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4-5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81280" y="4572000"/>
            <a:ext cx="2040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ames Numerals 11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429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rites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rrectly writes all numerals 0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Correctly writes all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Correctly writes at least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Correctly writes less than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s Ordinals (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o 1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The student correctly performs all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The student correctly performs at least 6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The student correctly performs at least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The student correctly performs less than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21043800">
            <a:off x="5029200" y="2437920"/>
            <a:ext cx="33670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50292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Objects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s Objects to Sub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038480" y="2789280"/>
            <a:ext cx="4511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res Eq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The student correctly divides sets of 10-16 and    5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The student correctly divides sets of 10 and 16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he student correctly divides one or both sets of 10 and 16 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The student is unable to divide any of the sets of counters into 2 groups or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6019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Kindergarten Report Card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Excellent Progress—on or above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atisfactory Progress—on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ome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Unsatisfactory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289548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447920" y="533520"/>
            <a:ext cx="62481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eneral Knowledg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Ite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12408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= 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Needs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 = Un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1971720" cy="297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880" y="6858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572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8 Basic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6-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Days of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6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903320" cy="2666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19720" y="76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nts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286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i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191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ares Attributes of Two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3 or 4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or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862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685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ies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2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1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imates Quantities to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or 3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267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s Pattern Block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635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tell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—must have a beginning, middle, and end for a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icipating in Collecting and Organizing Data in Group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80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37968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57800" y="0"/>
            <a:ext cx="298620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1308600">
            <a:off x="2057040" y="1828440"/>
            <a:ext cx="54864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Arts Item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s Capital Letters &amp; Names Lower Cas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905120"/>
            <a:ext cx="556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25-2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22-2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18-2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1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37335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ices/Applies Consonant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st Quarter (6 Soun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nd Quarter (15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14-1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2-1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0-1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0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5238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rd &amp;4th Quarter (23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22-2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9-2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6-18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257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nstrates Book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5-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3830760"/>
            <a:ext cx="30481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28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5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7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66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50-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34-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94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70-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0-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200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733920" y="838080"/>
            <a:ext cx="853416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quences Pictur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Rhym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9/10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7/8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6/7 Wor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67668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808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Oppo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80880"/>
            <a:ext cx="411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Capital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cas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25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2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18-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429000"/>
            <a:ext cx="830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to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Writes more than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Writes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Writes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Writes less than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230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4:26:49Z</dcterms:created>
  <dc:creator>kmclaughlin</dc:creator>
  <dc:description/>
  <dc:language>en-US</dc:language>
  <cp:lastModifiedBy>kmclaughlin</cp:lastModifiedBy>
  <dcterms:modified xsi:type="dcterms:W3CDTF">2008-09-02T21:06:32Z</dcterms:modified>
  <cp:revision>20</cp:revision>
  <dc:subject/>
  <dc:title>Broadway Kindergarten “Back to School” 2006-2007</dc:title>
</cp:coreProperties>
</file>