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7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25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3FD-6E6B-4E40-BF32-F4E19251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7D3D-D742-455E-99AD-712F6030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C5D-FECA-454A-B984-1A32EB15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E4F-9227-4C5D-835A-3422965C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7244-32F1-433E-96E6-F2058BA4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CB22-57CD-44CD-83F9-47E98F7F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1471-3FE5-4670-B24B-E0E65DC8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3EEE-9C9A-454C-A10F-5A76938F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00ED-BBE3-48DA-B63D-5870421B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2810-B3FF-4543-A9A9-0108E2AD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38E6-D879-431E-955E-1ABA9D9E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4B5-6EF5-4374-8B68-54F33F19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6012-50A7-455F-A276-2AE3C8BB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F9B0-2569-453D-964D-16F6CB95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D85E-A18D-4997-8552-83D8C258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A4AF-8F29-4649-8465-4A558469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9C51-FA35-4C18-BB7F-5F844CCE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12FC1-7EE3-4239-B2B8-17BE92A6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E0038-6254-416F-9BF1-B7B059CD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3874F-3B6F-4278-B3CD-857DAC4E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E87F-5941-476A-B26F-281B42D0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159A3-AA54-4874-BBCD-9C083D1B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FAD5-1C58-48D6-80AA-4EB95A62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E54C2-0B98-4F9B-852B-58D90FA7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20314-CC60-4851-9F6B-711DAB77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84CE-85EB-44A1-B1F4-17A76EEE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D3E3-AD45-4302-BCFE-9C9ED702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5DF7-B218-497E-B9F2-2D649E1C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32F3E-DAF1-43B6-BE46-35C0259C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1EF7C-37CD-496E-A248-66A1C29C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4DA1-6E71-4A2A-A169-272417A6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D51-69DA-4B0E-A8D1-5344B350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6F6-0672-417E-AEEF-C4B6BDB2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B0F-E5C6-407A-876B-6F0073DF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E7C-00E5-4928-B7CD-936335F1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76F-6D1B-4954-8291-9F0EAD07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0772-BE38-44AC-BF2D-D60ECC836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7A3E-3ED4-48E0-954D-3A1BBC2FAD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6B30-D315-4301-B17F-04C7AF381F47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1828440"/>
            <a:ext cx="4190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adway Kindergar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Back to School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-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71760" cy="472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487840" y="2286000"/>
            <a:ext cx="365616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447920" y="1219320"/>
            <a:ext cx="6476760" cy="432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th I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te Counts to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9436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9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2604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Basic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All 4 (square, rectangle, circle, triangle) + 1(cube or sp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ifies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5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-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4621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6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971800" y="228600"/>
            <a:ext cx="3429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plicates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onstrates 1 to 1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: 1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1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unts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or mo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e Sets—Same, More,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4-5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581280" y="4572000"/>
            <a:ext cx="2040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ames Numerals 11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429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rites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rrectly writes all numerals 0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Correctly writes all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Correctly writes at least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Correctly writes less than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s Ordinals (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o 1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The student correctly performs all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The student correctly performs at least 6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The student correctly performs at least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The student correctly performs less than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21043800">
            <a:off x="5029200" y="2437920"/>
            <a:ext cx="33670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50292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Objects to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s Objects to Sub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038480" y="2789280"/>
            <a:ext cx="45118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res Eq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The student correctly divides sets of 10-16 and    5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The student correctly divides sets of 10 and 16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The student correctly divides one or both sets of 10 and 16 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The student is unable to divide any of the sets of counters into 2 groups or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00200" y="5029200"/>
            <a:ext cx="6019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Kindergarten Report Card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Excellent Progress—on or above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atisfactory Progress—on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ome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Unsatisfactory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2895480" cy="22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447920" y="533520"/>
            <a:ext cx="62481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eneral Knowledg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Ite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12408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= 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Needs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 = Un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1971720" cy="2971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0880" y="6858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57200"/>
            <a:ext cx="83059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8 Basic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6-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Days of the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6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858000" y="2286000"/>
            <a:ext cx="1903320" cy="2666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038480" y="5335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419720" y="76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nts 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2286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i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191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ares Attributes of Two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3 or 4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or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862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685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entifies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2 or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213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imates Quantities to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or 3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267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etes Pattern Block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6352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85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tell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—must have a beginning, middle, and end for an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icipating in Collecting and Organizing Data in Group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180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337968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57800" y="0"/>
            <a:ext cx="2986200" cy="373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 rot="1308600">
            <a:off x="2057040" y="1828440"/>
            <a:ext cx="54864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Arts Item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s Capital Letters &amp; Names Lower Case Let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905120"/>
            <a:ext cx="556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25-2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22-2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18-2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1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373356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ices/Applies Consonant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st Quarter (6 Soun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nd Quarter (15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14-1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2-1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0-1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0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152388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rd &amp;4th Quarter (23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22-2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9-2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6-18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257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onstrates Book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5-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71800" y="3830760"/>
            <a:ext cx="30481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28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1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5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7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66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50-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34-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94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70-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0-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200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733920" y="838080"/>
            <a:ext cx="853416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quences Pictur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Rhyming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9/10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7/8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6/7 Wor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67668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3808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Oppo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80880"/>
            <a:ext cx="411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Capital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case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25-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2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18-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429000"/>
            <a:ext cx="8305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to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Writes more than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Writes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Writes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Writes less than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230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4:26:49Z</dcterms:created>
  <dc:creator>kmclaughlin</dc:creator>
  <dc:description/>
  <dc:language>en-US</dc:language>
  <cp:lastModifiedBy>kmclaughlin</cp:lastModifiedBy>
  <dcterms:modified xsi:type="dcterms:W3CDTF">2008-09-02T21:06:32Z</dcterms:modified>
  <cp:revision>20</cp:revision>
  <dc:subject/>
  <dc:title>Broadway Kindergarten “Back to School” 2006-2007</dc:title>
</cp:coreProperties>
</file>